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39F99-5171-47FB-A3D4-B5F925F903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EAD92-46E1-4F97-A26A-8B1E0D8536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F390F-9A65-4D82-8DE0-7505B490BF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3EF45-FEFF-4D96-9E36-8DEFEB50EA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45BA8-8197-4CB9-8819-A2DCE94B71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F713F-F761-43E2-9E80-46B3FDA757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CDA70-9C37-4BA0-B453-49B3013358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25294-5138-4B07-9B91-51CEE80F18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CFD77-7186-4048-8063-DC5131A19B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1662-A9C3-472D-8DCB-049F8228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11B1-8895-4E47-B36D-A42A042F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6F38-C684-464C-861A-32B1F5C9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A632-F902-4BFE-9591-81C57675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487A-91B6-4672-AD09-6ECCC534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231D-9097-4809-8700-26149C55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FB73-BDAD-4959-BFBB-67FEE051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091E-D363-4138-B14D-22BD1BA7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92DD-6708-4C13-B005-9835B61F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9BA2-A007-4F04-A179-4517B7FF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A9EF-0BB7-491B-B942-CE517EB7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18E4-74F3-4DBD-9DE1-DA068074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762FD-E982-40E9-AD8F-873ADAAF3F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-360360" y="1403280"/>
            <a:ext cx="11245680" cy="24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When I Survey /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5200" spc="-1" strike="noStrike">
                <a:solidFill>
                  <a:srgbClr val="ffffff"/>
                </a:solidFill>
                <a:latin typeface="Verdana"/>
              </a:rPr>
              <a:t>O The Wonderful Cross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773280" y="1874880"/>
            <a:ext cx="8839080" cy="20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When I survey the wondrous cros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n which the Prince of glory died,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My richest gain I count but loss,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nd pour contempt on all my pr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468360" y="1798560"/>
            <a:ext cx="9144000" cy="20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See from His head, His hands, His feet,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Sorrow and love flow mingled down!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Did e’er such love and sorrow meet,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r thorns compose so rich a crow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773280" y="426960"/>
            <a:ext cx="8839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the wonderful cros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the wonderful cr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ids me come and d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nd find that I may truly l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849240" y="2484360"/>
            <a:ext cx="883944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the wonderful cros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the wonderful cr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ll who gather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y grace draw near and b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Your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106640" y="1341360"/>
            <a:ext cx="79149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Were the whole realm of nature mine,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That were a present far too small: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Love so amazing, so divine,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Demands my soul, my life, my 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73280" y="426960"/>
            <a:ext cx="8839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the wonderful cros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the wonderful cr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ids me come and d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nd find that I may truly l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849240" y="2484360"/>
            <a:ext cx="883944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the wonderful cros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the wonderful cr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ll who gather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y grace draw near and b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Your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773280" y="1379520"/>
            <a:ext cx="8839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the wonderful cros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 the wonderful cr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ids me come and d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nd find that I may truly l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588680" y="808200"/>
            <a:ext cx="6947280" cy="20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Love so amazing, so divine,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Demands my soul, my life, my 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ter</dc:creator>
  <dc:description/>
  <dc:language>en-US</dc:language>
  <cp:lastModifiedBy>pcwade</cp:lastModifiedBy>
  <dcterms:modified xsi:type="dcterms:W3CDTF">2014-01-26T08:05:08Z</dcterms:modified>
  <cp:revision>6</cp:revision>
  <dc:subject/>
  <dc:title>Slide 1</dc:title>
</cp:coreProperties>
</file>